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0.jpeg" ContentType="image/jpeg"/>
  <Override PartName="/ppt/media/image12.png" ContentType="image/pn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F40E-CD81-41C2-BFBC-BBC78D165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6385-565D-457F-826C-70425E59FBE8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factors are no longer about the building/district as a whole but about the individuals involv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75DE-0E4C-4079-9D76-195CF9EF7D63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ust activit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k of a person you truly adm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qualities does/did this person possess that makes you think so highly of him/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E4F0-263A-4FF0-A195-7F84621A7763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Sense of caring &amp; respectfuln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Valuing and treating others as import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Belief in each oth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Spirit of collegial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Free of anxiety that others won’t d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Commun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O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Gracefu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Confident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Physical clim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Comfortable place to talk free of distrac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Social clim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buClr>
                <a:srgbClr val="c0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Calibri"/>
                <a:ea typeface="Arial"/>
              </a:rPr>
              <a:t>Welcoming of people &amp; ide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EDE8-C0A9-4A4A-AB20-0511E41FCA33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8FD0-45F8-4344-98C3-9604906AF9F8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into coaching where the level of trust is uncertain, begin with informal coaching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peer coaching – wheel – Take a minute to look at these.  Which have you don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745F7-FA43-4DD7-B396-F5BE6F482041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 wanted ads – does anybody have any ideas on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ing posts – 15 minutes to an hour:  a topic is assigned to different areas of the room to discu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walking – based on the time-honored medical premise that seeking advice from colleagues is a solid professional deci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3FEA-BC6A-437F-AF3E-BAE8ADAD2A03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of what you’ve been doing in your teams has been formal coach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lready have a sense of trust in your team.  Chances are you already have clear communic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, communication is the factor most likely to undermine the coaching proc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0D7EF-CAB3-4AFF-B9E5-9E97C87DC81C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igher the risk level of peer coaching activities, the more important communication beco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voice inflection and body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24023-D71A-4C76-9402-2605FE3F605C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lf-awareness – blind spo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Clarifying 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ill you present the in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students will be ther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the students  be working in group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aphrasing - Restate what was said to indicate acceptance, encouragement, and understan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ing for specificity Ques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sh the speaker to think more deeply about a top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ften prefaced by a paraphr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open ended and do not carry a solution (better if the questioner does not have the answ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questions that help focus the speaker rather than satisfying coach's curios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aming - Reframing is seeing the current situation from a different perspective, which can be tremendously helpful in problem solving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ision making and learning. Reframing is helping you or another person to more constructively move on from a situation in which you or the other person feels stuck or confused.  “Have you had a similar situation where you found a solution?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communcation practice handout.  Complete.  Discu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9839-074A-4960-B435-721F3427E9F0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Suzanne’s article about feedback with Grant Wiggins in NYC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ensure that what we’re providing is feedba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plcwashington.org/site/default.aspx?PageType=3&amp;ModuleInstanceID=59&amp;ViewID=7b97f7ed-8e5e-4120-848f-a8b4987d588f&amp;RenderLoc=0&amp;FlexDataID=38&amp;PageID=2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B020-B053-43C1-9982-D337CCBC25BC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ol’s notes from the group’s last discu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49BD-2761-482E-8F14-E0827E7B7429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Emphasize importance of communication techniques in the pre-con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How do we determine what is to be observe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elegant, realistic and significant way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What is the best time (portion of the lesson) for the observ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How long should the visit b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Where will the visitor s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hould the observer interact with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What is the learning objective for the less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Where in the developmental process is this group in relation to the learning targ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What types of information will the observer be looking for &amp; collec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How will that information be record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How will the collected information be us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 up post con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pre/post conference worksheet.  Choose a topic for observation.  Have one be teacher &amp; one observer.  Work through the pre-confer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ACE0-7A5D-4729-AA69-D79FC680B477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These are ideas of what to look for in an observ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etting – what are the cultural, economic, political, governmental, legal, &amp; social contexts in which the teaching is taking pl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ituation – Where is the teacher coming from in relation to the demands of the job?  Is the teacher a beginner, experienced but new to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etting?  Old &amp; burned out?  Working with a new bo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tructure – within what kind of an organization is the teacher working?  - dictatorial, autocratic, supportive, collaborative, autonom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tyle – what style of learning, behaving, &amp; leading best fits this teacher in this set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trategies – what are the models or ways of teaching the teacher uses to reach the goals that have been se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c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 </a:t>
            </a: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Skills – which explicit techniques (observable behaviors) does the teacher use to deal with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Calibri"/>
                <a:ea typeface="Arial"/>
              </a:rPr>
              <a:t>(similar to who, what, where, when, how &amp; wh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1348-FFA0-4832-B63B-9B5B17CC4B3C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0777-63A4-4BF2-AFED-3D7480DF8BEE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lear are my direction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questions do I direct to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I give all students equal atten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the distribution of student talk/teacher talk in clas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kinds of verbal/non-verbal feedback do I give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my pacing too fast/too slow for the majority of my stud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sample areas of focus. Revie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6DD9-5DA5-4711-B698-DBE90D5A5C7F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ation Point is in Zion National Pa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observation tools.  Explain pract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ermine which tools you’d use for w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B743-4C94-4820-B884-6B86AD92BD32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26C7-A6D1-4994-8285-7481E1DE03C6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clarifying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more, talk 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Post Conference discussion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B5A0-695C-48E6-BF2E-42B492B9A9CE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sit essential ques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47E7-04CD-4EBF-A503-8D803F713F72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A976-5CF8-4A40-BAC9-6E6609BF9F1F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rd is noticeably abs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make this definition our own.  What do you want it to s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8771-AFFC-4805-8367-5FC3AD6313C1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C768-A81B-4FA6-A425-16B01299EC20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inctions between coaching &amp; evalu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inute pause to talk to teams about the differences between coaching &amp; evaluatio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can it be confusing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paper about coaching v. evalu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B35C-CA97-47A5-A080-E4A5A1A181C3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 a list of factors that will damage a school climate &amp; factors that will build/restore a school clim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list of these fac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B27EE-D217-464C-8C5D-32926E6367DA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171E-48D6-4417-B98B-73A457714465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rk do we have to do in each of our buildings to ensure we have a culture &amp; climate conducive to coach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632F-2C97-4970-8B35-05184B828309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F43A-1444-47E7-B5D1-8D1139000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C839-C158-46D2-B80F-FCFC4A63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9268D0-56B2-45A7-AFCE-0724326EA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C1CA09-040C-438F-862B-0814185F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4F8DD-ACEA-48A3-B2F5-8C77A020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178AF-A58A-4F2E-BD1D-A3751DD7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114A6-66FA-4FDD-989A-DC5EADF9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6C8D75-CA04-4173-AC6F-F0FCEF60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A455C-44E9-4B31-96A0-EAE8BD837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68655F-F504-4FAB-8380-F97DEB69B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4A5CA-4249-4F34-A4E4-2D5FBDE1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375856-AF04-4E07-9B30-C08B5B17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DD54-F713-4E48-89A4-E4C3F6E21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A66A43-17A4-4C11-8CBE-0DEC2FEFB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FDE4BB-1B73-40AE-B022-753C7EA3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607B5A-800F-4C15-A9FA-B497F1F3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163DC-978F-4F68-AD83-E13705FD9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5B6C15-F8B7-408F-AAD9-DAE1D166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5A11B-93B7-495C-9D1E-4AC73F39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9A63BF-61FB-495F-B507-37BC1B68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D159CE-D109-4840-9AB2-22D5B5243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185A09-B1CA-4D40-9ADA-EA3720D1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4A65F0-CA24-42D5-9CA5-DAE392734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CB0-C389-47D0-B70A-0F92E172F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DFDCF3-3991-4DF3-B91A-519A2DF6E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A9E5D3-FFC8-47F3-85A5-238BB0E06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32548-0D51-4838-AE0B-AA4B728B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A16D4-B9FB-4528-BA46-AD15731E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C973BF-7F1A-4091-A2D1-95B1F112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59EFC-4092-4269-84DB-B99AB5ED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293A89-4493-4E65-8751-7C29FBA3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4C9F75-921E-44C5-9168-2823188A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1719B-ECC8-4BEB-A9EE-4A5CE606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471DC-2C24-43B4-96BB-E93D96E5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089A-2063-442F-99A6-7DD335416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F77E0-6787-41A4-B8A1-48A7FFA1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A2B5D-73C5-4C99-8D35-9ACE55F80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56D1E-B539-4B20-BBBC-1486A24EA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A4BF76-1DF2-41DC-8D21-8A3C0864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D4B4C9-EE26-4362-9603-C9780508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CE774-29CC-4857-BB36-69622D7D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F83F2-F827-4361-930C-78510848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97F1B-1A01-4DF6-9738-00D443A8B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CE0FC8-892C-4CEA-9D65-55CA464A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9C67AA-B661-43BE-9618-6DF5D6FF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F9F0-983F-4CEE-B7FB-CD508863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BD7389-3058-479E-A3E0-C617C14A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E7F3EB-0BBD-4D9F-85AA-0E622F33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35DA3-176E-42B7-B562-3D43DB43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69C067-0BE6-44FF-BC7A-E80F1D5E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C63400-CEA6-4EB5-B682-223577BF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29886-88BF-4FD0-A4FC-E652E188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B49BE-FE19-4AEA-BABE-1D727CE3C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3748-CCC8-457F-90FE-6D84E5E00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54E3-4F77-48FA-BC4E-233C97F4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BAE88-D003-47AF-8184-B8D53BF6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B402-0067-4ED5-8E2D-EFE82AA1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6E41-A656-4D6E-A491-89204A84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30E3-CF84-40E6-B03D-4724DB16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1199-D335-4247-889D-B3C3A98D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3E6F-D4A7-43D6-BBF6-7A010E829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C3FD-CF2E-425A-8B57-C3DAC88B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78643-4640-49E2-A831-08DF63559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2A0F9-26F7-40C0-82AF-253D017F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F4CBA-DEEA-435B-ADD1-6EBCFE0D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2D2C0-B963-4F72-95AA-60C5D742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20160-055F-4573-A1EA-1F3F0427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71C1-93FC-479D-B090-9FB89F3E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D8F92-9D98-4F57-AA35-E43A38C0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47654-4C41-49A4-A15A-FE24EA58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207A0-5207-41CA-9045-810A7021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D8C1D-84BB-437B-9197-2123AFD5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47F6C-4A9D-4A43-ADCA-C73CF912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2E4F2-6E8C-4E6B-925C-8F2D2977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D9371-98E8-4FAB-A4E3-3D11E391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2A7C0-1363-4E40-A67E-5F160131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BDDC9-160B-4CA8-8F83-FE7013B3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12A4F-53FA-44E8-A5E5-D117A848C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FAE0-C558-4464-8A21-46849442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BC932-FD23-4878-B2FB-5220CDC9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B9DF7-7B9D-424F-8952-1EC89847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7BFED-2B23-4878-A310-46FE29F1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B51B3-3F5A-42E2-9157-F167B2B80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484F3-B48E-42EC-A9E4-D1C19CA3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CA3B3-F678-4C97-97B5-0305857C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001E4-3488-4E2A-B9DA-D3743A11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FAA06-5482-4BC3-A37C-B8DE3AE16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28295-918A-4AAB-BA60-E7B0FA6F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C0045-13C9-45FA-A57B-B277D1768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A227-4A92-452D-B5C9-19FCB950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0D0E0-E321-4DB9-A72A-4E4C0AE6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69B5A-62B6-4598-8273-8EA40EFE3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ACEB2-162C-4735-B907-A703920D1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928B4-337C-4B29-917F-3D2FDF99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B0D37-7DD3-4728-B12E-0869B342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60E19-D2C0-4662-BA64-22D4C074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A5645-1E41-4F1B-BD24-E2EAAC0A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C1B12-5D38-4DA7-835F-22D18DDD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35509-ABE2-4409-A459-06F8D554E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3332B-EDF0-4CEE-9BB8-BDBBC5F45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3855-EF64-4305-BDC6-17ADB56A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7D00E-55F6-4A73-A37A-4E6A48ED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37922-7800-45F4-88E0-BE3B7AAC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54E11-ADA0-444E-9D54-199DC7B3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D83B0D-B77D-4157-AA96-32338E10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4F8EB-620B-401F-815D-892D1C85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1F0B1-C057-4A27-BCF1-36D90158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37F10-ED5B-475D-AB0C-678DAED1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2EDDE4-5DD0-40EC-9065-A02362A16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880C1-956B-4A00-BABB-6C5F843C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630866-3F47-4FC2-ADC3-EC544EFC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071-5019-4C01-A9E7-1E7ABA98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19ECC-9EC3-46E3-8A41-F7EBE571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B0443-B4A9-4669-BA34-AD0ACCE1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2DE83C-C7C3-4EB2-BA47-B94C6733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7986D-31E2-4514-B11A-0B43FDDC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C39A7-4A2D-43D3-B406-BF34D0BC2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E9FC5-BF36-4C2C-8614-1CF3C301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23A07-D2A1-451F-BEE1-2A5894D9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A6112-2098-4D40-83A0-46B5336E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35ADC-8C02-4A4D-B181-0CDF62FD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E37B5-2A10-4F3F-BDCD-D6BA1808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2BB3-86DA-4714-8B8B-BAAB9247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89E693-00CD-49A2-A091-CBCD6691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30EF3-5769-4B58-9F07-DD24FD5C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C9125-A985-439A-8BE5-40C142175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0B9F7-592D-43D8-A26E-91D448D2F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310BA-E142-488B-BB27-5C18CDE8C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AEEAC-713E-4EAB-B0F4-FBDE2E3CF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C2CD41-B4F1-4EBB-9D2F-7288DE4E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B4011-C112-44FD-AB7B-1A9144B3A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E2722-8262-4FC9-AA81-34CC6615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44E7A-C642-44E0-A478-338ABE65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1B5-9627-45C5-AE07-96ED0D89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D0C87-2E15-48F0-9BB5-103C6FB3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9AD35-5560-4377-AD9F-063C9C79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79B0A-1814-4C1D-B64E-537D809A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A3985-A75A-44F0-BB5A-6DEA1AC9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CFA71E-86F9-4BD8-90D6-DF27B7C6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218DD-1B98-46AB-B19F-01243AC9A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BC7DE-CD30-408B-98C4-1D44E57D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436424-FE42-4F27-89B4-4CAE1F91B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696F2E-9FBD-437E-9906-2628CD080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67BB3-7C68-4520-9BF8-347921EF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c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6F49-4597-4EFA-A252-D5AD970DA032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c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7" name="Rectangle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8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59" name="Rectangle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5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2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3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4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E7FA-0EC6-4B1C-97F6-64D20873A18E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24E3-A9D5-4621-8ED6-D3198926651B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8" name="Rectangle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0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1" name="Rectangle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2" name="Straight Connector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3" name="Oval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4" name="Oval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3A2A-961C-4C30-AD48-263516594C7B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2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5" name="Straight Connector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7" name="Oval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8" name="Oval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5C42-BAE5-4628-AEF5-2EC810595F9B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2FC79-8FBF-4176-8E49-E58B911E6D2E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c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3" name="Rectangle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4" name="Rectangle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5" name="Rectangle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5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6" name="Rectangle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7" name="Rectangle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8" name="Straight Connector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60" name="Oval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4E13-5BD2-40C6-826F-D58FB1F7008E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422A-B3E1-482A-BA07-938DD5D00369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2323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5" name="Rectangle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7" name="Rectangle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8" name="Rectangle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5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59" name="Rectangle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0" name="Straight Connector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1" name="Rectangle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2" name="Oval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3" name="Oval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280E-1B51-45EA-B27F-E6E67FA4912C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c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D08FE-7D65-42B6-A7BB-D2E1836D5FDE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c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7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60" name="Rectangle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CA85-2278-4502-8667-19531D434E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ca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4" name="Rectangle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5" name="Rectangle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6" name="Rectangle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7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5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09" name="Straight Connector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01b54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10" name="Oval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11" name="Oval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01b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12" name="Rectangle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1b54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5e3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9f293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0206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4e854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604878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1b5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C971-BF8C-47E1-A1A2-95673B5EF4DC}" type="slidenum">
              <a:rPr b="0" lang="en-US" sz="1600" spc="-1" strike="noStrike">
                <a:solidFill>
                  <a:srgbClr val="001b5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8397"/>
            </a:gs>
            <a:gs pos="100000">
              <a:srgbClr val="d2e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2971800" y="2895480"/>
            <a:ext cx="3211560" cy="221004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Instructional Coaching</a:t>
            </a:r>
            <a:br>
              <a:rPr sz="4200"/>
            </a:b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The QCSD Model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sp>
        <p:nvSpPr>
          <p:cNvPr id="615" name="TextBox 3"/>
          <p:cNvSpPr/>
          <p:nvPr/>
        </p:nvSpPr>
        <p:spPr>
          <a:xfrm>
            <a:off x="2895480" y="556272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Georgia"/>
              </a:rPr>
              <a:t>April 2, 2012</a:t>
            </a:r>
            <a:endParaRPr b="0" lang="en-US" sz="18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aching Readines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47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sp>
        <p:nvSpPr>
          <p:cNvPr id="648" name="TextBox 9"/>
          <p:cNvSpPr/>
          <p:nvPr/>
        </p:nvSpPr>
        <p:spPr>
          <a:xfrm>
            <a:off x="304920" y="2514600"/>
            <a:ext cx="8458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Characteristics of a teacher ready for peer coaching: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Believes in the benefits of coaching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Knows that it is okay to make mistakes, is a reasonable risk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taker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Is open to learning and using a variety of learning model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Works with a partner with whom they share trust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Is committed to seeking and trying new strategie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Trusts the principal to not micromanage coaching proces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</a:rPr>
              <a:t>Possesses the “Why not?” attitude</a:t>
            </a:r>
            <a:r>
              <a:rPr b="0" lang="en-US" sz="24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456840" y="265716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eorgia"/>
                <a:ea typeface="Arial"/>
              </a:rPr>
              <a:t>The state of readiness for unguarded interaction with someone or something.</a:t>
            </a:r>
            <a:endParaRPr b="0" lang="en-US" sz="32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What is Trust?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51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2" descr="http://t1.gstatic.com/images?q=tbn:ANd9GcSLp_RYAUjLHTn507nnURIzfiX9y-hL7yCpWZyc9goEdkSoPXHepAltc_OgeA"/>
          <p:cNvPicPr/>
          <p:nvPr/>
        </p:nvPicPr>
        <p:blipFill>
          <a:blip r:embed="rId2"/>
          <a:stretch/>
        </p:blipFill>
        <p:spPr>
          <a:xfrm>
            <a:off x="5715000" y="4343400"/>
            <a:ext cx="26193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152280" y="27432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72880" algn="r">
              <a:spcBef>
                <a:spcPts val="700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Sense of caring &amp; respectfulness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 algn="r">
              <a:spcBef>
                <a:spcPts val="700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Belief in each other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 algn="r">
              <a:spcBef>
                <a:spcPts val="700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Communications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 algn="r">
              <a:spcBef>
                <a:spcPts val="700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Physical climate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 algn="r">
              <a:spcBef>
                <a:spcPts val="700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Social climate</a:t>
            </a: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Developing Trust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55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http://blog.huddle.net/wp-content/uploads/2009/08/Working_Together_Teamwork_and-team-building-exercises.jpg"/>
          <p:cNvPicPr/>
          <p:nvPr/>
        </p:nvPicPr>
        <p:blipFill>
          <a:blip r:embed="rId2"/>
          <a:stretch/>
        </p:blipFill>
        <p:spPr>
          <a:xfrm>
            <a:off x="304920" y="3200400"/>
            <a:ext cx="309708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An excellent form of job-embedded PD a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encouraged by Learning Forward Standard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Relies on multiple strategies that research show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lead to instructional improvement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It keeps PD fresh because it’s constantly changing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s who feel enabled and supported to 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succeed are more committed and effective.</a:t>
            </a:r>
            <a:endParaRPr b="0" lang="en-US" sz="26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Why Use Instructional</a:t>
            </a:r>
            <a:br>
              <a:rPr sz="4200"/>
            </a:b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 Coaching?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59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Trust building coaching activities that do not involve classroom observations.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Most informal activities are designed to engage colleagues in conversations about what enhances teaching .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Can be planning, implementation or follow-up.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Informal Coaching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62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304560" y="2666520"/>
            <a:ext cx="8839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wap meet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Lowest risk – share effective curricular materials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Low risk – swap lesson ideas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igher rick – swap classes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Help wanted ad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Listening post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alk walking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Low Risk Coaching </a:t>
            </a:r>
            <a:br>
              <a:rPr sz="4200"/>
            </a:b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Activities to Build Trust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65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2" descr="http://www.billsqualityautocare.com/wp-content/uploads/2009/07/listening-ear.gif"/>
          <p:cNvPicPr/>
          <p:nvPr/>
        </p:nvPicPr>
        <p:blipFill>
          <a:blip r:embed="rId2"/>
          <a:stretch/>
        </p:blipFill>
        <p:spPr>
          <a:xfrm>
            <a:off x="6472080" y="3809880"/>
            <a:ext cx="237816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-272880">
              <a:spcBef>
                <a:spcPts val="79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eorgia"/>
                <a:ea typeface="Arial"/>
              </a:rPr>
              <a:t>Pre-conference</a:t>
            </a:r>
            <a:endParaRPr b="0" lang="en-US" sz="3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79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eorgia"/>
                <a:ea typeface="Arial"/>
              </a:rPr>
              <a:t>Observation</a:t>
            </a:r>
            <a:endParaRPr b="0" lang="en-US" sz="32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79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eorgia"/>
                <a:ea typeface="Arial"/>
              </a:rPr>
              <a:t>Post conference</a:t>
            </a:r>
            <a:endParaRPr b="0" lang="en-US" sz="3200" spc="-1" strike="noStrike">
              <a:solidFill>
                <a:srgbClr val="323232"/>
              </a:solidFill>
              <a:latin typeface="Georgi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endParaRPr b="0" lang="en-US" sz="32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Formal Coaching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69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Physical &amp; emotional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Critical for learning &amp; growth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Key to developing trust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The means by which we establish, maintain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&amp; destroy relationships.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mmunication i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72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3" descr=""/>
          <p:cNvPicPr/>
          <p:nvPr/>
        </p:nvPicPr>
        <p:blipFill>
          <a:blip r:embed="rId2"/>
          <a:stretch/>
        </p:blipFill>
        <p:spPr>
          <a:xfrm>
            <a:off x="1082520" y="5232240"/>
            <a:ext cx="70549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Self-awareness – presuppositions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Clarifying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Paraphrasing 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Probing for specificity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Reframing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Listening -reciprocity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48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mmunication Technique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76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315360" indent="-315360"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Feedback – We often confuse 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feedback with its brothers 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   –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praise, blame and advice.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Feedback should promote 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goal-setting and self-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assessment.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-315360">
              <a:spcBef>
                <a:spcPts val="700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Asking those probing questions.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  <a:p>
            <a:pPr lvl="1" marL="377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mmunication Technique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79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4" descr="http://3.bp.blogspot.com/-PN5GH6ZzVgU/T1J6M7psBwI/AAAAAAAAALU/pwkIAQMoFFI/s1600/feedback.jpg"/>
          <p:cNvPicPr/>
          <p:nvPr/>
        </p:nvPicPr>
        <p:blipFill>
          <a:blip r:embed="rId2"/>
          <a:stretch/>
        </p:blipFill>
        <p:spPr>
          <a:xfrm>
            <a:off x="6135840" y="3191040"/>
            <a:ext cx="28335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152280" y="27432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create a culture of coaching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can trust be established &amp; nurtured in professional relationships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give feedback that is specific &amp; descriptive (not general &amp; evaluative)? How do we bring expertise without posing as the expert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47560" indent="-27288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determine what is to be observed in elegant, realistic &amp; significant ways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Essential Question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18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304560" y="2514600"/>
            <a:ext cx="8839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Builds rapport between professional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Establishes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purpose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of observation.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lvl="1" marL="509040" indent="-253440">
              <a:spcBef>
                <a:spcPts val="601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 provides observer with pertinent information about the class, students &amp; plan.</a:t>
            </a:r>
            <a:endParaRPr b="0" lang="en-US" sz="2400" spc="-1" strike="noStrike">
              <a:solidFill>
                <a:srgbClr val="323232"/>
              </a:solidFill>
              <a:latin typeface="Georgia"/>
            </a:endParaRPr>
          </a:p>
          <a:p>
            <a:pPr lvl="1" marL="509040" indent="-253440">
              <a:spcBef>
                <a:spcPts val="601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 &amp; observer may collaborate on the observation focus.</a:t>
            </a:r>
            <a:endParaRPr b="0" lang="en-US" sz="2400" spc="-1" strike="noStrike">
              <a:solidFill>
                <a:srgbClr val="323232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Establishes how &amp; when the observation will b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onducted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Determines type of data to be collected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Pre-Conference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83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/>
          </p:nvPr>
        </p:nvSpPr>
        <p:spPr>
          <a:xfrm>
            <a:off x="609480" y="2666520"/>
            <a:ext cx="83822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etting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ituation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tructur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tyl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trategie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kill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Framework for Analyzing Teaching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86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2" descr="http://www.qcommservices.com/blog/wp-content/uploads/2012/01/framework1.jpg"/>
          <p:cNvPicPr/>
          <p:nvPr/>
        </p:nvPicPr>
        <p:blipFill>
          <a:blip r:embed="rId2"/>
          <a:stretch/>
        </p:blipFill>
        <p:spPr>
          <a:xfrm>
            <a:off x="3935520" y="2666880"/>
            <a:ext cx="4470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-student interaction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tudent on-task tim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Verbal flow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 proximity to student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Wait tim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Questioning Skill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Reinforcement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Use of motivation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Focus of Observation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90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http://mayogenuine.com/images_blog/examine.png"/>
          <p:cNvPicPr/>
          <p:nvPr/>
        </p:nvPicPr>
        <p:blipFill>
          <a:blip r:embed="rId2"/>
          <a:stretch/>
        </p:blipFill>
        <p:spPr>
          <a:xfrm>
            <a:off x="6218280" y="2819520"/>
            <a:ext cx="26668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Instructional technique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urriculum approache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 expectations/student achievement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Active participation technique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Gender expectation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articular child or small group focu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Focus of Observation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94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elective Verbatim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Verbal Flow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At Task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lass Traffic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Interaction Analysi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Interaction Timelin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Global Scan Anecdotal Record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Observation Tool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97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2" descr="http://t3.gstatic.com/images?q=tbn:ANd9GcQ8U8S-Y8vckLIwqt5X90RTuvY322TfIsasM9psu_B1DJzBqQgJqxB_hQoN"/>
          <p:cNvPicPr/>
          <p:nvPr/>
        </p:nvPicPr>
        <p:blipFill>
          <a:blip r:embed="rId2"/>
          <a:stretch/>
        </p:blipFill>
        <p:spPr>
          <a:xfrm>
            <a:off x="5497560" y="2819520"/>
            <a:ext cx="33526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hysic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English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Math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old Calling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ocial Studie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iPad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Sample Lesson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701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304560" y="2437920"/>
            <a:ext cx="8839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Ideally conducted later the same day or the next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day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tart by debriefing – reviewing observation goal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Give the teacher the collected data – simply hold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up the mirror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romote reflection – ask probing question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C provides feedback about practic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C generates action plans for the futur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C motivates participants moving forward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Post Conference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704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/>
          </p:nvPr>
        </p:nvSpPr>
        <p:spPr>
          <a:xfrm>
            <a:off x="152280" y="2666520"/>
            <a:ext cx="8839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Where do we go from here?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What does next year look like?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What do the next few years look like?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How do we roll this out to maintain the integrity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of the process and the value of the product?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What does training look like for all participants?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How do we make this system manageable for all?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Next Step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707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152280" y="27432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lvl="1" marL="509040" indent="-25344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create appropriate observation protocols? 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09040" indent="-25344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gather the data? What is data collection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09040" indent="-25344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promote reflective practice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09040" indent="-25344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decide &amp; implement literacy &amp; peer-coaching practices that are appropriate, valuable &amp; accessible district-wide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  <a:p>
            <a:pPr lvl="1" marL="509040" indent="-253440">
              <a:spcBef>
                <a:spcPts val="649"/>
              </a:spcBef>
              <a:buClr>
                <a:srgbClr val="c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Georgia"/>
                <a:ea typeface="Arial"/>
              </a:rPr>
              <a:t>How do we make this process manageable?</a:t>
            </a:r>
            <a:endParaRPr b="0" lang="en-US" sz="2600" spc="-1" strike="noStrike">
              <a:solidFill>
                <a:srgbClr val="323232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Essential Question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21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eer coaching is a non-evaluative, non-judgmental process through which colleagues provide one another with feedback, to promote self-reflection. The goal is to improve teacher effectiveness, create a collaborative culture and ultimately enhance student learning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aching Defined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24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380520" y="2743200"/>
            <a:ext cx="64803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pecific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not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general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rofessional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not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social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ollegial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not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competitiv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Helping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not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evaluativ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onfidential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not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public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Dynamic </a:t>
            </a:r>
            <a:r>
              <a:rPr b="0" lang="en-US" sz="2400" spc="-1" strike="noStrike" u="sng">
                <a:solidFill>
                  <a:srgbClr val="c00000"/>
                </a:solidFill>
                <a:uFillTx/>
                <a:latin typeface="Georgia"/>
                <a:ea typeface="Arial"/>
              </a:rPr>
              <a:t>not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static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What it is…and isn’t: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27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28" name="Rectangle 7" descr=""/>
          <p:cNvPicPr/>
          <p:nvPr/>
        </p:nvPicPr>
        <p:blipFill>
          <a:blip r:embed="rId2"/>
          <a:stretch/>
        </p:blipFill>
        <p:spPr>
          <a:xfrm>
            <a:off x="5559480" y="3962520"/>
            <a:ext cx="3371760" cy="71280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2" descr="http://paraduxmedia.com/wp-content/uploads/2011/01/no-sign-md.png"/>
          <p:cNvPicPr/>
          <p:nvPr/>
        </p:nvPicPr>
        <p:blipFill>
          <a:blip r:embed="rId3"/>
          <a:stretch/>
        </p:blipFill>
        <p:spPr>
          <a:xfrm>
            <a:off x="5562720" y="27432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1368000" y="2743200"/>
            <a:ext cx="6480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Equity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hoic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Voic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Dialogu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Reflection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raxis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Reciprocity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It Involves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32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2" descr="http://imgc.allpostersimages.com/images/P-473-488-90/60/6060/8R6D100Z/posters/mischa-richter-man-looking-in-mirror-and-saying-ha-and-in-the-mirror-is-the-reflection-new-yorker-cartoon.jpg"/>
          <p:cNvPicPr/>
          <p:nvPr/>
        </p:nvPicPr>
        <p:blipFill>
          <a:blip r:embed="rId2"/>
          <a:stretch/>
        </p:blipFill>
        <p:spPr>
          <a:xfrm>
            <a:off x="4952880" y="2514600"/>
            <a:ext cx="381960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/>
          </p:nvPr>
        </p:nvSpPr>
        <p:spPr>
          <a:xfrm>
            <a:off x="380880" y="41144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Recognition of the student as the prime focu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Mutual respect and collaboration among adults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An atmosphere of conscious caring 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aching Climate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36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sp>
        <p:nvSpPr>
          <p:cNvPr id="637" name="TextBox 5"/>
          <p:cNvSpPr/>
          <p:nvPr/>
        </p:nvSpPr>
        <p:spPr>
          <a:xfrm>
            <a:off x="304920" y="2743200"/>
            <a:ext cx="8610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Script MT Bold"/>
              </a:rPr>
              <a:t>Refers to the impressions, feelings and expectations of the school community.  A positive climate requires: </a:t>
            </a:r>
            <a:endParaRPr b="0" lang="en-US" sz="2800" spc="-1" strike="noStrike">
              <a:solidFill>
                <a:srgbClr val="00206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228600" y="4114800"/>
            <a:ext cx="5105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Simply, climate is about atmosphere and culture is about time-honored tradition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aching Culture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40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  <p:sp>
        <p:nvSpPr>
          <p:cNvPr id="641" name="TextBox 6"/>
          <p:cNvSpPr/>
          <p:nvPr/>
        </p:nvSpPr>
        <p:spPr>
          <a:xfrm>
            <a:off x="228600" y="281952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Script MT Bold"/>
              </a:rPr>
              <a:t>This is a broader term that encompasses school climate and the rituals, values, assumptions and beliefs that give the school its identity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pic>
        <p:nvPicPr>
          <p:cNvPr id="642" name="Picture 7" descr=""/>
          <p:cNvPicPr/>
          <p:nvPr/>
        </p:nvPicPr>
        <p:blipFill>
          <a:blip r:embed="rId2"/>
          <a:stretch/>
        </p:blipFill>
        <p:spPr>
          <a:xfrm>
            <a:off x="6248520" y="3657600"/>
            <a:ext cx="21333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228600" y="24379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Leaders are trusting (servant leaders)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Entire staff is focused on student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Coaching flows in all direction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Participants are seeking precision, refinement &amp;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mastery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eachers are/become passionate &amp; energized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Learning occurs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More shared/effective decisions are made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>
              <a:spcBef>
                <a:spcPts val="601"/>
              </a:spcBef>
              <a:buClr>
                <a:srgbClr val="c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Georgia"/>
                <a:ea typeface="Arial"/>
              </a:rPr>
              <a:t>The district has a common coaching framework.</a:t>
            </a: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060"/>
              </a:solidFill>
              <a:latin typeface="Georgi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haracteristics of a </a:t>
            </a:r>
            <a:br>
              <a:rPr sz="4200"/>
            </a:br>
            <a:r>
              <a:rPr b="0" lang="en-US" sz="4200" spc="-1" strike="noStrike">
                <a:solidFill>
                  <a:srgbClr val="002060"/>
                </a:solidFill>
                <a:latin typeface="Georgia"/>
              </a:rPr>
              <a:t>Coaching Culture</a:t>
            </a:r>
            <a:endParaRPr b="0" lang="en-US" sz="4200" spc="-1" strike="noStrike">
              <a:solidFill>
                <a:srgbClr val="001b54"/>
              </a:solidFill>
              <a:latin typeface="Georgia"/>
            </a:endParaRPr>
          </a:p>
        </p:txBody>
      </p:sp>
      <p:pic>
        <p:nvPicPr>
          <p:cNvPr id="645" name="Picture 2" descr="http://cdn6.fotosearch.com/bthumb/CSP/CSP345/k3456048.jpg"/>
          <p:cNvPicPr/>
          <p:nvPr/>
        </p:nvPicPr>
        <p:blipFill>
          <a:blip r:embed="rId1"/>
          <a:stretch/>
        </p:blipFill>
        <p:spPr>
          <a:xfrm>
            <a:off x="6934320" y="304920"/>
            <a:ext cx="191592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2:41:58Z</dcterms:created>
  <dc:creator>User</dc:creator>
  <dc:description/>
  <dc:language>en-US</dc:language>
  <cp:lastModifiedBy>Chad Evans</cp:lastModifiedBy>
  <dcterms:modified xsi:type="dcterms:W3CDTF">2012-04-05T18:09:29Z</dcterms:modified>
  <cp:revision>130</cp:revision>
  <dc:subject/>
  <dc:title>Slide 1</dc:title>
</cp:coreProperties>
</file>